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27.png" ContentType="image/png"/>
  <Override PartName="/ppt/media/image29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4.png" ContentType="image/png"/>
  <Override PartName="/ppt/media/image12.jpeg" ContentType="image/jpeg"/>
  <Override PartName="/ppt/media/image34.png" ContentType="image/png"/>
  <Override PartName="/ppt/media/image28.png" ContentType="image/png"/>
  <Override PartName="/ppt/media/image30.png" ContentType="image/png"/>
  <Override PartName="/ppt/media/image5.png" ContentType="image/png"/>
  <Override PartName="/ppt/media/image35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1.jpeg" ContentType="image/jpeg"/>
  <Override PartName="/ppt/media/image10.jpeg" ContentType="image/jpe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40CE5-F973-449E-8A86-BEC8E05F5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EC600-C2AB-41A8-83C7-6B0358DB0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8092CE-27E0-4745-9051-224BEC1DE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034038-B939-402E-B1A6-1FC811B52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C9B2FE-33BD-4010-8980-15313427E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D761B2-E900-452C-8EF5-8F742EEE6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289551-3B5F-4398-A6D7-23121686D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697696-619F-4BD5-913B-616AAF319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FEBF4A-50E6-42DA-8D35-52F69BEBD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23C00F-FA2C-4CF7-B479-B7B562C87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A21EC5-636D-4E1E-8666-A78EBB794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F6E3F-CF00-4FB7-BEA5-79F96A488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0768E-2F06-4DB5-BA3C-DA6C7B162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512CF-652B-48E9-8862-506EAA53E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9592E-1DDE-4AC6-8C28-F9CA55E4F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783E6-09C6-41F3-9D96-6924FD78A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1A343-36A0-41F9-9BD5-661E5BFDE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97284-0589-47FC-81BE-2EA4D706F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76BC3-E298-43DA-9AEB-75FDB753E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72885-22C6-4E74-B213-117DC69E1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0DE5F-1CAB-4698-B3AE-D44CD94A2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62509-3030-4E3F-869A-6C98DF1CF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74959-FF05-415C-861A-F9AB096C7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AB5BB-936F-4D66-8AC7-B455A65FB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2774D-6148-4ACB-BF13-C742F74B2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85663-F2DE-4DA0-8D64-AC1B72CB0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F8B196-37DD-4C1B-AFC2-235911939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28BD56-74C1-4EE5-9724-427A22ABB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8C5960-A7BE-4C5B-AF69-F4B9F8746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0EF935-AB0D-4D20-8626-78DF71156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BCAA4B-52D9-4E37-B22A-A2E3F2A4F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3CBB0-1011-4E3E-8DA2-2196AAD61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DBB7E6-3E28-4CDF-B016-7D4A2515D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699ACC-BDF4-4B6A-A9CA-CF636C392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3F9A2E-5D23-45A9-94A4-790DC24C3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B53938-9095-474F-BE36-8CA3D95FC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573DAC-62F3-4D19-84E1-0B9A32179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D6F153-E611-46F5-A87F-BB0986814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7E218F-1E73-4DCC-8190-C8067AF5D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D3CD63-88DE-4C88-BAB4-06646789C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F72B42-710A-4EEF-BAF9-BBFBE2C2C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365E7D-CC87-4C80-A28E-8DA07F7EF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829E1-539B-4B42-A041-C5261E2FC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97A82E-79A4-4663-A1D6-92284B25C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4E2942-68E9-4B5C-9D46-EA8DA8B34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DF8454-EDE3-4CEA-B4A4-C87644F9A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13B705-955A-46AB-89FF-7263513B0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8BCA19-0E82-47B7-A7CA-CF8EF7263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EA6194-5D3E-4B74-B871-16554673D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C76C7B-1812-467A-B3B8-D7D280FF6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CD5189-9115-4F4B-B874-6B4756EDF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BC8882-525C-422A-80FE-A6AA0C386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2E6B81-0CE4-477C-B815-31AE9D4C7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08013-1C09-47A2-A401-43F56C4B0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D0765C-9BA0-4E14-A9A9-B296DEC07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88CAB0-0804-43A5-B34B-6ABE75892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3768C8-63C7-4DA3-95E2-0B84DA6AB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C8EA23-F8CB-4465-A883-3FA9344D7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A4AD84-5BF4-4FF9-8960-DE5887220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C3692C-9A5B-4B1A-9FC4-F3C7C09C9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B6B0EB-ADAC-4773-B51E-303EA99DE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B58E0B-D289-4A36-A7D7-2C92BB66D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B86965-6182-43FD-A53E-828A93EBF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53E63C-F06A-441D-A92A-C7735262E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28B7B-FBE7-47E6-B054-6B26D84DA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73A7B1-5490-4B80-AC1C-ECD771274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4D8A9A-7E9D-4F56-85B9-14B85CD78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31E337-5912-4FBD-B013-71E39A445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37EA5D-5FC0-417F-B02B-3FEE921C4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CE45BA-7B63-43B3-8738-C0D86BD06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9987D5-DB55-47F2-BE37-ED0600A92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01512E-BABD-4348-A51A-933695B10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082C30-7674-4F7C-B312-2597E21CC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C57BF1-B399-4749-BCBD-61B0681F4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82CCE8-D6EB-4747-A232-FA6D97DFA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F3AF5-C776-461B-853B-F2BF3A8E7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30E543-F6D8-42AA-A222-5AB7D3269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66E6CC-F0F1-4DC7-BD52-0E58F34D2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3E05D5-E679-4964-9D97-393694503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7404C4-4D60-4ED5-9DE4-68E75F529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630A8D-8F78-4D46-80D3-4E21DB0B4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8B4967-95FC-49B3-B8B0-DC3D7DE2C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BF763D-F5D0-4276-B4DF-D9B06E113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FFAF38-5EFE-42C3-9541-D0A586178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F6B31F-368C-4664-BC69-0F9B7CE6C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0E9926-9D77-4480-A72F-9615EA424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90FFA-36A4-46ED-B673-C3D50D8AF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C5517B-6CA5-403E-A877-B661BCDB1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38EB12-A875-450C-B909-4A91B328F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1B8D66-9516-4D6B-BFAB-ECBAF8172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7A035F-E491-442F-9E7C-0DB87B587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53393D-C67F-44FB-8FE1-181B8A461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34B2EF-E6D9-4FCA-8963-B6D9A77B5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421BDC-C3E4-4361-8496-8E7E4BC35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5C38A6-CCB7-4B33-ADA1-8F07F1707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459C1F-5884-4464-9F6D-EC76D53F8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38978A-D43D-4D89-9CC9-DC12F4F64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2E55B-E887-41F4-86BB-95E3F1D50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754C2D-B567-4C75-9312-4238C6F74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496159-5D5E-4196-BC26-49905CCC0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45559A-2D71-4605-83E0-693F88BD1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0049E2-DCFA-4F00-9B96-5522E6423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E90C08-CEE4-4D89-9D5B-C64FE2DDA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69FF26-40DD-4947-B86F-E2B11A19B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426288-D8AD-4BBB-85EE-259C762C6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A3BD22-D230-4ADF-84DF-8F73070FA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83D6FB-8935-4ECD-9A79-DBDF09E70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BFE11B-3864-462D-86A9-6194D6648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85.xml"/><Relationship Id="rId9" Type="http://schemas.openxmlformats.org/officeDocument/2006/relationships/slideLayout" Target="../slideLayouts/slideLayout86.xml"/><Relationship Id="rId10" Type="http://schemas.openxmlformats.org/officeDocument/2006/relationships/slideLayout" Target="../slideLayouts/slideLayout87.xml"/><Relationship Id="rId11" Type="http://schemas.openxmlformats.org/officeDocument/2006/relationships/slideLayout" Target="../slideLayouts/slideLayout88.xml"/><Relationship Id="rId12" Type="http://schemas.openxmlformats.org/officeDocument/2006/relationships/slideLayout" Target="../slideLayouts/slideLayout89.xml"/><Relationship Id="rId13" Type="http://schemas.openxmlformats.org/officeDocument/2006/relationships/slideLayout" Target="../slideLayouts/slideLayout90.xml"/><Relationship Id="rId14" Type="http://schemas.openxmlformats.org/officeDocument/2006/relationships/slideLayout" Target="../slideLayouts/slideLayout91.xml"/><Relationship Id="rId15" Type="http://schemas.openxmlformats.org/officeDocument/2006/relationships/slideLayout" Target="../slideLayouts/slideLayout92.xml"/><Relationship Id="rId16" Type="http://schemas.openxmlformats.org/officeDocument/2006/relationships/slideLayout" Target="../slideLayouts/slideLayout93.xml"/><Relationship Id="rId17" Type="http://schemas.openxmlformats.org/officeDocument/2006/relationships/slideLayout" Target="../slideLayouts/slideLayout94.xml"/><Relationship Id="rId18" Type="http://schemas.openxmlformats.org/officeDocument/2006/relationships/slideLayout" Target="../slideLayouts/slideLayout95.xml"/><Relationship Id="rId19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a6b9db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1f497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50BFE-6CB1-46DD-8294-18C7663B92FB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a6b9db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50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2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53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154c8e"/>
              </a:gs>
              <a:gs pos="50000">
                <a:srgbClr val="5e91da"/>
              </a:gs>
              <a:gs pos="100000">
                <a:srgbClr val="154c8e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55" name="Freeform 16"/>
            <p:cNvSpPr/>
            <p:nvPr/>
          </p:nvSpPr>
          <p:spPr>
            <a:xfrm>
              <a:off x="1694520" y="4952880"/>
              <a:ext cx="7449480" cy="48816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8160"/>
                <a:gd name="textAreaBottom" fmla="*/ 488520 h 48816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a6b9db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8"/>
            <p:cNvSpPr/>
            <p:nvPr/>
          </p:nvSpPr>
          <p:spPr>
            <a:xfrm>
              <a:off x="44280" y="5237640"/>
              <a:ext cx="9099720" cy="788760"/>
            </a:xfrm>
            <a:custGeom>
              <a:avLst/>
              <a:gdLst>
                <a:gd name="textAreaLeft" fmla="*/ 0 w 9099720"/>
                <a:gd name="textAreaRight" fmla="*/ 9100080 w 9099720"/>
                <a:gd name="textAreaTop" fmla="*/ 0 h 788760"/>
                <a:gd name="textAreaBottom" fmla="*/ 789120 h 78876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Freeform 19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8" name="Freeform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" name=""/>
              <p:cNvSpPr/>
              <p:nvPr/>
            </p:nvSpPr>
            <p:spPr>
              <a:xfrm>
                <a:off x="864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60" name="Straight Connector 20" descr=""/>
            <p:cNvPicPr/>
            <p:nvPr/>
          </p:nvPicPr>
          <p:blipFill>
            <a:blip r:embed="rId5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1f497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0BD10-7668-4071-AE85-AE11EE0B9C46}" type="slidenum">
              <a:rPr b="0" lang="en-GB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a6b9db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05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7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grpSp>
        <p:nvGrpSpPr>
          <p:cNvPr id="108" name="Chevron 10"/>
          <p:cNvGrpSpPr/>
          <p:nvPr/>
        </p:nvGrpSpPr>
        <p:grpSpPr>
          <a:xfrm>
            <a:off x="3565440" y="2962440"/>
            <a:ext cx="336600" cy="377640"/>
            <a:chOff x="3565440" y="2962440"/>
            <a:chExt cx="336600" cy="377640"/>
          </a:xfrm>
        </p:grpSpPr>
        <p:pic>
          <p:nvPicPr>
            <p:cNvPr id="109" name="Chevron 10" descr=""/>
            <p:cNvPicPr/>
            <p:nvPr/>
          </p:nvPicPr>
          <p:blipFill>
            <a:blip r:embed="rId4"/>
            <a:stretch/>
          </p:blipFill>
          <p:spPr>
            <a:xfrm>
              <a:off x="3565440" y="2962440"/>
              <a:ext cx="336600" cy="37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"/>
            <p:cNvSpPr/>
            <p:nvPr/>
          </p:nvSpPr>
          <p:spPr>
            <a:xfrm>
              <a:off x="3637080" y="3005280"/>
              <a:ext cx="182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Chevron 15"/>
          <p:cNvGrpSpPr/>
          <p:nvPr/>
        </p:nvGrpSpPr>
        <p:grpSpPr>
          <a:xfrm>
            <a:off x="3376440" y="2962440"/>
            <a:ext cx="336600" cy="377640"/>
            <a:chOff x="3376440" y="2962440"/>
            <a:chExt cx="336600" cy="377640"/>
          </a:xfrm>
        </p:grpSpPr>
        <p:pic>
          <p:nvPicPr>
            <p:cNvPr id="112" name="Chevron 15" descr=""/>
            <p:cNvPicPr/>
            <p:nvPr/>
          </p:nvPicPr>
          <p:blipFill>
            <a:blip r:embed="rId5"/>
            <a:stretch/>
          </p:blipFill>
          <p:spPr>
            <a:xfrm>
              <a:off x="3376440" y="2962440"/>
              <a:ext cx="336600" cy="37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"/>
            <p:cNvSpPr/>
            <p:nvPr/>
          </p:nvSpPr>
          <p:spPr>
            <a:xfrm>
              <a:off x="3449520" y="3005280"/>
              <a:ext cx="184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eeece1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eeece1"/>
              </a:solidFill>
              <a:latin typeface="Lucida Sans Unicod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4BEC4-01D7-45CF-B6B4-71B9FBED9425}" type="slidenum">
              <a:rPr b="0" lang="en-GB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a6b9db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58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0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eeece1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eeece1"/>
              </a:solidFill>
              <a:latin typeface="Lucida Sans Unicode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D7D0C-74BE-419B-BB7A-EBF0FEE3A3FA}" type="slidenum">
              <a:rPr b="0" lang="en-GB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a6b9db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05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7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1f497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1DAC8-4338-4316-95B0-3170145A4C54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a6b9db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1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52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54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eeece1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eeece1"/>
              </a:solidFill>
              <a:latin typeface="Lucida Sans Unicode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C0644-29DC-4038-A136-B9BBCD22CE3D}" type="slidenum">
              <a:rPr b="0" lang="en-GB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a6b9db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8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99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01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1f497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44606-D081-42C9-9B98-EBA2EC6AC93D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a6b9db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5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46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48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49" name="Freef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a6b9db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Freef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1" name="Right Triangle 16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52" name="Right Triangle 16" descr=""/>
            <p:cNvPicPr/>
            <p:nvPr/>
          </p:nvPicPr>
          <p:blipFill>
            <a:blip r:embed="rId4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3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54" name="Straight Connector 18" descr=""/>
          <p:cNvPicPr/>
          <p:nvPr/>
        </p:nvPicPr>
        <p:blipFill>
          <a:blip r:embed="rId5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grpSp>
        <p:nvGrpSpPr>
          <p:cNvPr id="355" name="Chevron 19"/>
          <p:cNvGrpSpPr/>
          <p:nvPr/>
        </p:nvGrpSpPr>
        <p:grpSpPr>
          <a:xfrm>
            <a:off x="8589960" y="4943520"/>
            <a:ext cx="334800" cy="377640"/>
            <a:chOff x="8589960" y="4943520"/>
            <a:chExt cx="334800" cy="377640"/>
          </a:xfrm>
        </p:grpSpPr>
        <p:pic>
          <p:nvPicPr>
            <p:cNvPr id="356" name="Chevron 19" descr=""/>
            <p:cNvPicPr/>
            <p:nvPr/>
          </p:nvPicPr>
          <p:blipFill>
            <a:blip r:embed="rId6"/>
            <a:stretch/>
          </p:blipFill>
          <p:spPr>
            <a:xfrm>
              <a:off x="8589960" y="4943520"/>
              <a:ext cx="334800" cy="37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7" name=""/>
            <p:cNvSpPr/>
            <p:nvPr/>
          </p:nvSpPr>
          <p:spPr>
            <a:xfrm>
              <a:off x="8664480" y="4987800"/>
              <a:ext cx="182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8" name="Chevron 20"/>
          <p:cNvGrpSpPr/>
          <p:nvPr/>
        </p:nvGrpSpPr>
        <p:grpSpPr>
          <a:xfrm>
            <a:off x="8405640" y="4943520"/>
            <a:ext cx="336600" cy="377640"/>
            <a:chOff x="8405640" y="4943520"/>
            <a:chExt cx="336600" cy="377640"/>
          </a:xfrm>
        </p:grpSpPr>
        <p:pic>
          <p:nvPicPr>
            <p:cNvPr id="359" name="Chevron 20" descr=""/>
            <p:cNvPicPr/>
            <p:nvPr/>
          </p:nvPicPr>
          <p:blipFill>
            <a:blip r:embed="rId7"/>
            <a:stretch/>
          </p:blipFill>
          <p:spPr>
            <a:xfrm>
              <a:off x="8405640" y="4943520"/>
              <a:ext cx="336600" cy="37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0" name=""/>
            <p:cNvSpPr/>
            <p:nvPr/>
          </p:nvSpPr>
          <p:spPr>
            <a:xfrm>
              <a:off x="8477280" y="4987800"/>
              <a:ext cx="182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eeece1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eeece1"/>
              </a:solidFill>
              <a:latin typeface="Lucida Sans Unicode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9B32A-8168-432A-8D28-54BE18D09238}" type="slidenum">
              <a:rPr b="0" lang="en-GB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8"/>
    <p:sldLayoutId id="2147483741" r:id="rId9"/>
    <p:sldLayoutId id="2147483742" r:id="rId10"/>
    <p:sldLayoutId id="2147483743" r:id="rId11"/>
    <p:sldLayoutId id="2147483744" r:id="rId12"/>
    <p:sldLayoutId id="2147483745" r:id="rId13"/>
    <p:sldLayoutId id="2147483746" r:id="rId14"/>
    <p:sldLayoutId id="2147483747" r:id="rId15"/>
    <p:sldLayoutId id="2147483748" r:id="rId16"/>
    <p:sldLayoutId id="2147483749" r:id="rId17"/>
    <p:sldLayoutId id="2147483750" r:id="rId18"/>
    <p:sldLayoutId id="2147483751" r:id="rId19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a6b9db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4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405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6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07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1f497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6CF1D-8B85-4A1F-8005-53FB22FF6E88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Rectangle 4" descr=""/>
          <p:cNvPicPr/>
          <p:nvPr/>
        </p:nvPicPr>
        <p:blipFill>
          <a:blip r:embed="rId1"/>
          <a:stretch/>
        </p:blipFill>
        <p:spPr>
          <a:xfrm>
            <a:off x="487440" y="2871720"/>
            <a:ext cx="8186760" cy="1785960"/>
          </a:xfrm>
          <a:prstGeom prst="rect">
            <a:avLst/>
          </a:prstGeom>
          <a:ln w="0">
            <a:noFill/>
          </a:ln>
        </p:spPr>
      </p:pic>
      <p:sp>
        <p:nvSpPr>
          <p:cNvPr id="450" name="PlaceHolder 1"/>
          <p:cNvSpPr>
            <a:spLocks noGrp="1"/>
          </p:cNvSpPr>
          <p:nvPr>
            <p:ph type="subTitle"/>
          </p:nvPr>
        </p:nvSpPr>
        <p:spPr>
          <a:xfrm>
            <a:off x="685800" y="443664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Lucida Sans Unicode"/>
              </a:rPr>
              <a:t>Julia Critchley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451" name="Group 2"/>
          <p:cNvGrpSpPr/>
          <p:nvPr/>
        </p:nvGrpSpPr>
        <p:grpSpPr>
          <a:xfrm>
            <a:off x="85680" y="115920"/>
            <a:ext cx="1606680" cy="530280"/>
            <a:chOff x="85680" y="115920"/>
            <a:chExt cx="1606680" cy="530280"/>
          </a:xfrm>
        </p:grpSpPr>
        <p:pic>
          <p:nvPicPr>
            <p:cNvPr id="452" name="Picture 5" descr="http://research.ncl.ac.uk/media/sites/researchwebsites/rescapmed/EUlogo.jpg"/>
            <p:cNvPicPr/>
            <p:nvPr/>
          </p:nvPicPr>
          <p:blipFill>
            <a:blip r:embed="rId2"/>
            <a:stretch/>
          </p:blipFill>
          <p:spPr>
            <a:xfrm>
              <a:off x="85680" y="115920"/>
              <a:ext cx="811440" cy="530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3" name="Picture 7" descr="http://research.ncl.ac.uk/media/sites/researchwebsites/rescapmed/FP7logo2.jpg"/>
            <p:cNvPicPr/>
            <p:nvPr/>
          </p:nvPicPr>
          <p:blipFill>
            <a:blip r:embed="rId3"/>
            <a:stretch/>
          </p:blipFill>
          <p:spPr>
            <a:xfrm>
              <a:off x="1044360" y="120600"/>
              <a:ext cx="648000" cy="5256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54" name="Picture 1" descr=""/>
          <p:cNvPicPr/>
          <p:nvPr/>
        </p:nvPicPr>
        <p:blipFill>
          <a:blip r:embed="rId4"/>
          <a:stretch/>
        </p:blipFill>
        <p:spPr>
          <a:xfrm>
            <a:off x="7000920" y="109440"/>
            <a:ext cx="2093760" cy="1481400"/>
          </a:xfrm>
          <a:prstGeom prst="rect">
            <a:avLst/>
          </a:prstGeom>
          <a:ln w="0">
            <a:noFill/>
          </a:ln>
        </p:spPr>
      </p:pic>
      <p:pic>
        <p:nvPicPr>
          <p:cNvPr id="455" name="Picture 2" descr=""/>
          <p:cNvPicPr/>
          <p:nvPr/>
        </p:nvPicPr>
        <p:blipFill>
          <a:blip r:embed="rId5"/>
          <a:stretch/>
        </p:blipFill>
        <p:spPr>
          <a:xfrm>
            <a:off x="2484360" y="139680"/>
            <a:ext cx="3527640" cy="163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2" name="Title 1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47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In relation to your research study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ust be defined by this guiding concept (ie your research objective, the problem or issue you are discussing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Not just a descriptive list of the material available, or a set of summari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4" name="Title 1" descr=""/>
          <p:cNvPicPr/>
          <p:nvPr/>
        </p:nvPicPr>
        <p:blipFill>
          <a:blip r:embed="rId1"/>
          <a:stretch/>
        </p:blipFill>
        <p:spPr>
          <a:xfrm>
            <a:off x="176040" y="182520"/>
            <a:ext cx="8791920" cy="1238400"/>
          </a:xfrm>
          <a:prstGeom prst="rect">
            <a:avLst/>
          </a:prstGeom>
          <a:ln w="0">
            <a:noFill/>
          </a:ln>
        </p:spPr>
      </p:pic>
      <p:sp>
        <p:nvSpPr>
          <p:cNvPr id="475" name=""/>
          <p:cNvSpPr txBox="1"/>
          <p:nvPr/>
        </p:nvSpPr>
        <p:spPr>
          <a:xfrm>
            <a:off x="457200" y="1341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What are the main arguments?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Do the authors make similar or different arguments?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Are some arguments more convincing than others?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How has research been conducted in the literature?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How extensive has it been?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What kinds of data have been presented?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How pertinent are they?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Are there sufficient amounts of data?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Do they adequately answer the questions?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"/>
          <p:cNvSpPr txBox="1"/>
          <p:nvPr/>
        </p:nvSpPr>
        <p:spPr>
          <a:xfrm>
            <a:off x="457200" y="1481040"/>
            <a:ext cx="8229600" cy="50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What are the different types of methodologies used?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Sans Unicode"/>
              </a:rPr>
              <a:t>How well do they work?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Sans Unicode"/>
              </a:rPr>
              <a:t>Is one methodology more effective than others?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Sans Unicode"/>
              </a:rPr>
              <a:t>Why?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What are the different theoretical frameworks or approaches used?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Sans Unicode"/>
              </a:rPr>
              <a:t>What do they allow the authors o do?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Sans Unicode"/>
              </a:rPr>
              <a:t>How well do they work?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Sans Unicode"/>
              </a:rPr>
              <a:t>Is one approach more effective than others? Why?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Overall, is one work more convincing than others?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Sans Unicode"/>
              </a:rPr>
              <a:t>Why?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Sans Unicode"/>
              </a:rPr>
              <a:t>Or are the works you have compared too different to evaluate against each other?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77" name="Tit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8" name="Title 1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479" name=""/>
          <p:cNvSpPr txBox="1"/>
          <p:nvPr/>
        </p:nvSpPr>
        <p:spPr>
          <a:xfrm>
            <a:off x="45720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Lucida Sans Unicode"/>
              </a:rPr>
              <a:t>Searching for literature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Not extensive or exhaustive “systematic review”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Do not need to identify “all literature”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Recent literature will often do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BUT do need to identify key articles in the field (not always recent)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Lucida Sans Unicode"/>
              </a:rPr>
              <a:t>Key articles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Cited a lot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High impact journals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Check citations e.g. in pubmed, google scholar, science citation index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MEDLINE (PubMed)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Systematic review articles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Science Citation Index (can be very helpful if there is a “key paper” that most relevant studies will have cited)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0" name="Rectangle 2" descr=""/>
          <p:cNvPicPr/>
          <p:nvPr/>
        </p:nvPicPr>
        <p:blipFill>
          <a:blip r:embed="rId1"/>
          <a:stretch/>
        </p:blipFill>
        <p:spPr>
          <a:xfrm>
            <a:off x="384120" y="36360"/>
            <a:ext cx="8302680" cy="1024200"/>
          </a:xfrm>
          <a:prstGeom prst="rect">
            <a:avLst/>
          </a:prstGeom>
          <a:ln w="0">
            <a:noFill/>
          </a:ln>
        </p:spPr>
      </p:pic>
      <p:pic>
        <p:nvPicPr>
          <p:cNvPr id="481" name="Picture 4" descr=""/>
          <p:cNvPicPr/>
          <p:nvPr/>
        </p:nvPicPr>
        <p:blipFill>
          <a:blip r:embed="rId2"/>
          <a:srcRect l="0" t="0" r="-1248" b="-2039"/>
          <a:stretch/>
        </p:blipFill>
        <p:spPr>
          <a:xfrm>
            <a:off x="2209680" y="1066680"/>
            <a:ext cx="6782040" cy="5083200"/>
          </a:xfrm>
          <a:prstGeom prst="rect">
            <a:avLst/>
          </a:prstGeom>
          <a:ln w="0">
            <a:noFill/>
          </a:ln>
        </p:spPr>
      </p:pic>
      <p:sp>
        <p:nvSpPr>
          <p:cNvPr id="482" name="AutoShape 7"/>
          <p:cNvSpPr/>
          <p:nvPr/>
        </p:nvSpPr>
        <p:spPr>
          <a:xfrm>
            <a:off x="152280" y="5334120"/>
            <a:ext cx="2057400" cy="761760"/>
          </a:xfrm>
          <a:prstGeom prst="rightArrow">
            <a:avLst>
              <a:gd name="adj1" fmla="val 50000"/>
              <a:gd name="adj2" fmla="val 67521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-1080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1f497d"/>
              </a:solidFill>
              <a:latin typeface="Lucida Sans Unicode"/>
            </a:endParaRPr>
          </a:p>
        </p:txBody>
      </p:sp>
      <p:pic>
        <p:nvPicPr>
          <p:cNvPr id="484" name="Picture 4" descr=""/>
          <p:cNvPicPr/>
          <p:nvPr/>
        </p:nvPicPr>
        <p:blipFill>
          <a:blip r:embed="rId1"/>
          <a:srcRect l="0" t="0" r="-1066" b="-1359"/>
          <a:stretch/>
        </p:blipFill>
        <p:spPr>
          <a:xfrm>
            <a:off x="228600" y="185760"/>
            <a:ext cx="8610480" cy="6454800"/>
          </a:xfrm>
          <a:prstGeom prst="rect">
            <a:avLst/>
          </a:prstGeom>
          <a:ln w="0">
            <a:noFill/>
          </a:ln>
        </p:spPr>
      </p:pic>
      <p:sp>
        <p:nvSpPr>
          <p:cNvPr id="485" name="AutoShape 5"/>
          <p:cNvSpPr/>
          <p:nvPr/>
        </p:nvSpPr>
        <p:spPr>
          <a:xfrm>
            <a:off x="7010280" y="2743200"/>
            <a:ext cx="1600200" cy="762120"/>
          </a:xfrm>
          <a:prstGeom prst="leftArrow">
            <a:avLst>
              <a:gd name="adj1" fmla="val 50000"/>
              <a:gd name="adj2" fmla="val 5249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-1080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1f497d"/>
              </a:solidFill>
              <a:latin typeface="Lucida Sans Unicode"/>
            </a:endParaRPr>
          </a:p>
        </p:txBody>
      </p:sp>
      <p:pic>
        <p:nvPicPr>
          <p:cNvPr id="487" name="Picture 3" descr=""/>
          <p:cNvPicPr/>
          <p:nvPr/>
        </p:nvPicPr>
        <p:blipFill>
          <a:blip r:embed="rId1"/>
          <a:srcRect l="0" t="0" r="-1066" b="-1359"/>
          <a:stretch/>
        </p:blipFill>
        <p:spPr>
          <a:xfrm>
            <a:off x="228600" y="185760"/>
            <a:ext cx="8610480" cy="6454800"/>
          </a:xfrm>
          <a:prstGeom prst="rect">
            <a:avLst/>
          </a:prstGeom>
          <a:ln w="0">
            <a:noFill/>
          </a:ln>
        </p:spPr>
      </p:pic>
      <p:sp>
        <p:nvSpPr>
          <p:cNvPr id="488" name="AutoShape 4"/>
          <p:cNvSpPr/>
          <p:nvPr/>
        </p:nvSpPr>
        <p:spPr>
          <a:xfrm>
            <a:off x="7010280" y="2743200"/>
            <a:ext cx="1600200" cy="762120"/>
          </a:xfrm>
          <a:prstGeom prst="leftArrow">
            <a:avLst>
              <a:gd name="adj1" fmla="val 50000"/>
              <a:gd name="adj2" fmla="val 5249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AutoShape 5"/>
          <p:cNvSpPr/>
          <p:nvPr/>
        </p:nvSpPr>
        <p:spPr>
          <a:xfrm>
            <a:off x="457200" y="3809880"/>
            <a:ext cx="1433520" cy="685800"/>
          </a:xfrm>
          <a:prstGeom prst="rightArrow">
            <a:avLst>
              <a:gd name="adj1" fmla="val 50000"/>
              <a:gd name="adj2" fmla="val 5225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-1080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1f497d"/>
              </a:solidFill>
              <a:latin typeface="Lucida Sans Unicode"/>
            </a:endParaRPr>
          </a:p>
        </p:txBody>
      </p:sp>
      <p:pic>
        <p:nvPicPr>
          <p:cNvPr id="491" name="Picture 4" descr=""/>
          <p:cNvPicPr/>
          <p:nvPr/>
        </p:nvPicPr>
        <p:blipFill>
          <a:blip r:embed="rId1"/>
          <a:srcRect l="0" t="0" r="-108" b="-281"/>
          <a:stretch/>
        </p:blipFill>
        <p:spPr>
          <a:xfrm>
            <a:off x="0" y="3240"/>
            <a:ext cx="9144000" cy="685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-1080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1f497d"/>
              </a:solidFill>
              <a:latin typeface="Lucida Sans Unicode"/>
            </a:endParaRPr>
          </a:p>
        </p:txBody>
      </p:sp>
      <p:pic>
        <p:nvPicPr>
          <p:cNvPr id="493" name="Picture 3" descr=""/>
          <p:cNvPicPr/>
          <p:nvPr/>
        </p:nvPicPr>
        <p:blipFill>
          <a:blip r:embed="rId1"/>
          <a:srcRect l="0" t="0" r="-108" b="-281"/>
          <a:stretch/>
        </p:blipFill>
        <p:spPr>
          <a:xfrm>
            <a:off x="0" y="324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494" name="AutoShape 4"/>
          <p:cNvSpPr/>
          <p:nvPr/>
        </p:nvSpPr>
        <p:spPr>
          <a:xfrm>
            <a:off x="7162920" y="1219320"/>
            <a:ext cx="1066680" cy="1433520"/>
          </a:xfrm>
          <a:prstGeom prst="downArrow">
            <a:avLst>
              <a:gd name="adj1" fmla="val 50000"/>
              <a:gd name="adj2" fmla="val 33598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-2833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1f497d"/>
              </a:solidFill>
              <a:latin typeface="Lucida Sans Unicode"/>
            </a:endParaRPr>
          </a:p>
        </p:txBody>
      </p:sp>
      <p:pic>
        <p:nvPicPr>
          <p:cNvPr id="496" name="Picture 4" descr=""/>
          <p:cNvPicPr/>
          <p:nvPr/>
        </p:nvPicPr>
        <p:blipFill>
          <a:blip r:embed="rId1"/>
          <a:srcRect l="0" t="0" r="-753" b="-1378"/>
          <a:stretch/>
        </p:blipFill>
        <p:spPr>
          <a:xfrm>
            <a:off x="-152280" y="0"/>
            <a:ext cx="9296280" cy="7140600"/>
          </a:xfrm>
          <a:prstGeom prst="rect">
            <a:avLst/>
          </a:prstGeom>
          <a:ln w="0">
            <a:noFill/>
          </a:ln>
        </p:spPr>
      </p:pic>
      <p:sp>
        <p:nvSpPr>
          <p:cNvPr id="497" name="AutoShape 5"/>
          <p:cNvSpPr/>
          <p:nvPr/>
        </p:nvSpPr>
        <p:spPr>
          <a:xfrm>
            <a:off x="152280" y="2743200"/>
            <a:ext cx="1586160" cy="990720"/>
          </a:xfrm>
          <a:prstGeom prst="rightArrow">
            <a:avLst>
              <a:gd name="adj1" fmla="val 50000"/>
              <a:gd name="adj2" fmla="val 40025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6" name="Title 1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45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Lucida Sans Unicode"/>
              </a:rPr>
              <a:t>Provides an overview and a critical evaluation of a body of literature relating to a research topic or a research problem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Lucida Sans Unicode"/>
              </a:rPr>
              <a:t>Analyses a body of literature in order to classify it by themes or categories, rather than simply discussing individual works one after another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Lucida Sans Unicode"/>
              </a:rPr>
              <a:t>Presents the research and ideas of the field rather than each individual work or author by itself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-2833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1f497d"/>
              </a:solidFill>
              <a:latin typeface="Lucida Sans Unicode"/>
            </a:endParaRPr>
          </a:p>
        </p:txBody>
      </p:sp>
      <p:pic>
        <p:nvPicPr>
          <p:cNvPr id="499" name="Picture 3" descr=""/>
          <p:cNvPicPr/>
          <p:nvPr/>
        </p:nvPicPr>
        <p:blipFill>
          <a:blip r:embed="rId1"/>
          <a:srcRect l="0" t="0" r="-753" b="-1378"/>
          <a:stretch/>
        </p:blipFill>
        <p:spPr>
          <a:xfrm>
            <a:off x="-152280" y="0"/>
            <a:ext cx="9296280" cy="7140600"/>
          </a:xfrm>
          <a:prstGeom prst="rect">
            <a:avLst/>
          </a:prstGeom>
          <a:ln w="0">
            <a:noFill/>
          </a:ln>
        </p:spPr>
      </p:pic>
      <p:sp>
        <p:nvSpPr>
          <p:cNvPr id="500" name="AutoShape 4"/>
          <p:cNvSpPr/>
          <p:nvPr/>
        </p:nvSpPr>
        <p:spPr>
          <a:xfrm>
            <a:off x="152280" y="2743200"/>
            <a:ext cx="1586160" cy="990720"/>
          </a:xfrm>
          <a:prstGeom prst="rightArrow">
            <a:avLst>
              <a:gd name="adj1" fmla="val 50000"/>
              <a:gd name="adj2" fmla="val 40025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Line 7"/>
          <p:cNvSpPr/>
          <p:nvPr/>
        </p:nvSpPr>
        <p:spPr>
          <a:xfrm>
            <a:off x="3809880" y="2743200"/>
            <a:ext cx="381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Line 8"/>
          <p:cNvSpPr/>
          <p:nvPr/>
        </p:nvSpPr>
        <p:spPr>
          <a:xfrm>
            <a:off x="4191120" y="27432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Line 9"/>
          <p:cNvSpPr/>
          <p:nvPr/>
        </p:nvSpPr>
        <p:spPr>
          <a:xfrm flipH="1">
            <a:off x="3809520" y="3048120"/>
            <a:ext cx="381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Line 11"/>
          <p:cNvSpPr/>
          <p:nvPr/>
        </p:nvSpPr>
        <p:spPr>
          <a:xfrm flipV="1">
            <a:off x="3809880" y="274284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AutoShape 12"/>
          <p:cNvSpPr/>
          <p:nvPr/>
        </p:nvSpPr>
        <p:spPr>
          <a:xfrm>
            <a:off x="4267080" y="2590920"/>
            <a:ext cx="1219320" cy="685800"/>
          </a:xfrm>
          <a:prstGeom prst="leftArrow">
            <a:avLst>
              <a:gd name="adj1" fmla="val 50000"/>
              <a:gd name="adj2" fmla="val 44449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-2833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1f497d"/>
              </a:solidFill>
              <a:latin typeface="Lucida Sans Unicode"/>
            </a:endParaRPr>
          </a:p>
        </p:txBody>
      </p:sp>
      <p:pic>
        <p:nvPicPr>
          <p:cNvPr id="507" name="Picture 3" descr=""/>
          <p:cNvPicPr/>
          <p:nvPr/>
        </p:nvPicPr>
        <p:blipFill>
          <a:blip r:embed="rId1"/>
          <a:srcRect l="0" t="0" r="-753" b="-1378"/>
          <a:stretch/>
        </p:blipFill>
        <p:spPr>
          <a:xfrm>
            <a:off x="-152280" y="0"/>
            <a:ext cx="9296280" cy="7140600"/>
          </a:xfrm>
          <a:prstGeom prst="rect">
            <a:avLst/>
          </a:prstGeom>
          <a:ln w="0">
            <a:noFill/>
          </a:ln>
        </p:spPr>
      </p:pic>
      <p:sp>
        <p:nvSpPr>
          <p:cNvPr id="508" name="AutoShape 10"/>
          <p:cNvSpPr/>
          <p:nvPr/>
        </p:nvSpPr>
        <p:spPr>
          <a:xfrm>
            <a:off x="1752480" y="685800"/>
            <a:ext cx="914400" cy="1357200"/>
          </a:xfrm>
          <a:prstGeom prst="downArrow">
            <a:avLst>
              <a:gd name="adj1" fmla="val 50000"/>
              <a:gd name="adj2" fmla="val 3710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9" name="Title 1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51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Start with “</a:t>
            </a:r>
            <a:r>
              <a:rPr b="0" lang="en-GB" sz="2700" spc="-1" strike="noStrike">
                <a:solidFill>
                  <a:srgbClr val="ff0000"/>
                </a:solidFill>
                <a:latin typeface="Lucida Sans Unicode"/>
              </a:rPr>
              <a:t>What is known</a:t>
            </a: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”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In first sentence, state general topic of paper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Explain background / motivation (literature review) in a few sentences or paragraphs)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Narrow down to </a:t>
            </a:r>
            <a:r>
              <a:rPr b="0" lang="en-GB" sz="2300" spc="-1" strike="noStrike">
                <a:solidFill>
                  <a:srgbClr val="ff0000"/>
                </a:solidFill>
                <a:latin typeface="Lucida Sans Unicode"/>
              </a:rPr>
              <a:t>what is NOT known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1" name="Title 1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51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“</a:t>
            </a:r>
            <a:r>
              <a:rPr b="0" lang="en-GB" sz="2700" spc="-1" strike="noStrike">
                <a:solidFill>
                  <a:srgbClr val="ff0000"/>
                </a:solidFill>
                <a:latin typeface="Lucida Sans Unicode"/>
              </a:rPr>
              <a:t>What is not known</a:t>
            </a: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”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Brief statement, usually one sentence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Important, because it indicates: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100" spc="-1" strike="noStrike">
                <a:solidFill>
                  <a:srgbClr val="00b050"/>
                </a:solidFill>
                <a:latin typeface="Lucida Sans Unicode"/>
              </a:rPr>
              <a:t>that this work is new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100" spc="-1" strike="noStrike">
                <a:solidFill>
                  <a:srgbClr val="00b050"/>
                </a:solidFill>
                <a:latin typeface="Lucida Sans Unicode"/>
              </a:rPr>
              <a:t>links known and research question 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100" spc="-1" strike="noStrike">
                <a:solidFill>
                  <a:srgbClr val="00b050"/>
                </a:solidFill>
                <a:latin typeface="Lucida Sans Unicode"/>
              </a:rPr>
              <a:t>creates story line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3" name="Title 1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51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Flag this very clearly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E.g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“</a:t>
            </a: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is unknown”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“</a:t>
            </a: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is unclear”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“</a:t>
            </a: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needs to be determined”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349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Research Question must follow from “</a:t>
            </a:r>
            <a:r>
              <a:rPr b="0" lang="en-GB" sz="2700" spc="-1" strike="noStrike">
                <a:solidFill>
                  <a:srgbClr val="ff0000"/>
                </a:solidFill>
                <a:latin typeface="Lucida Sans Unicode"/>
              </a:rPr>
              <a:t>what is not known</a:t>
            </a: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”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349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5" name="Title 1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51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New sentence / paragraph for each known, unknown, quest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Use transition phrases and word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Repeat key them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IEA 2013 course on Epidemiology – Shah Ebrahim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Epidemiology Supercourse (presentations by Richard Smith and Pauls Zieg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18" name="Tit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8" name="Title 1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656560" cy="1243080"/>
          </a:xfrm>
          <a:prstGeom prst="rect">
            <a:avLst/>
          </a:prstGeom>
          <a:ln w="0">
            <a:noFill/>
          </a:ln>
        </p:spPr>
      </p:pic>
      <p:sp>
        <p:nvSpPr>
          <p:cNvPr id="45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Why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Has your research question already been answered? If so, how?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How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Search through the literatur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Writing of a review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0" name="Title 1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46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Lucida Sans Unicode"/>
              </a:rPr>
              <a:t>Situates your topic in relation to previous research and illuminates a spot for your research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[Also demonstrates your knowledge of literature]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Lucida Sans Unicode"/>
              </a:rPr>
              <a:t>Several goals: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provides background for your topic using previous research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shows you are familiar with previous, relevant research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evaluates the depth and breadth of the research in regards to your topic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determines remaining questions or aspects of your topic in need of research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2" name="Title 1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46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Overall, a literature review seeks to answer the following questions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What does the literature tell you?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What does the literature not tell you?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Why is this important?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Summarise everything in the field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Write loads and demonstrate you know “everything”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[This is just a few sentences to a few (short) paragraphs to put your work in context]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65" name="Tit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6" name="Title 1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46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1. Synthesize and evaluate informat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2. Identify the main ideas of the literatur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3. Identify the main argument of the literature review …[that supports your research question]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4. Organize the main points of the literature review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5. Write literature review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8" name="Title 1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46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Critical thinking, reading, and writing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Strategies for reading</a:t>
            </a: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take note of the themes or categorie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may be used later to develop a structure for the literature review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take note of how other writers classify their data, the literature in their fields, etc.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read literature reviews in other papers to see how they have been structured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Lucida Sans Unicode"/>
              </a:rPr>
              <a:t>Form categories for analysis and comparison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Lucida Sans Unicode"/>
              </a:rPr>
              <a:t>A strong literature review examines each work on its own and in relation to other works by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identifying and then analysing them with regards to a number of different research aspects and ideas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Lucida Sans Unicode"/>
              </a:rPr>
              <a:t>possible categories to use for comparison and analysis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topic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argument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results found and conclusions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methods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theoretical approach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71" name="Tit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3T14:49:39Z</dcterms:created>
  <dc:creator>ntpm</dc:creator>
  <dc:description/>
  <dc:language>en-US</dc:language>
  <cp:lastModifiedBy>Licenced User</cp:lastModifiedBy>
  <cp:lastPrinted>2012-08-01T12:36:40Z</cp:lastPrinted>
  <dcterms:modified xsi:type="dcterms:W3CDTF">2014-09-18T15:36:43Z</dcterms:modified>
  <cp:revision>264</cp:revision>
  <dc:subject/>
  <dc:title>Slide 1</dc:title>
</cp:coreProperties>
</file>